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E62A-947A-4A65-ACB3-5D52194F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728-D99F-4F3B-B6D0-4500EF84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C829-3EBF-47D8-BF5B-F91C2C7B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BDEC-A820-487C-B5F9-5541FF06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85C-F58C-4869-A1D3-A068E109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880E-D19C-49F9-AFBA-CB51BB12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6C1-BACE-4AF1-90FE-3D74B5E3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29E7-CEAF-441C-BA13-EFDE44E2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4A47-3A61-4F64-BAC7-1C57B83D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9FB8-0B1F-42AB-AC15-84CDD673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2BC1-3CF0-4002-9205-98D00685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73EB-99DD-46F4-8FC5-0F6A37E5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EA98-C4C1-47D0-A7C8-E9ACFD0CE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120" y="914400"/>
            <a:ext cx="1600200" cy="6858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0" y="5410080"/>
            <a:ext cx="114300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7543800" y="1599840"/>
            <a:ext cx="0" cy="381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2438280"/>
            <a:ext cx="1143000" cy="685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6629400" y="1600200"/>
            <a:ext cx="45720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29400" y="3124080"/>
            <a:ext cx="685800" cy="21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295280"/>
            <a:ext cx="16002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743200" y="1066680"/>
            <a:ext cx="3809880" cy="46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052720" y="1976040"/>
            <a:ext cx="466560" cy="9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429000" y="1371240"/>
            <a:ext cx="3048120" cy="152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3352680"/>
            <a:ext cx="3124080" cy="212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1430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981080"/>
            <a:ext cx="461880" cy="82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7524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4495680"/>
            <a:ext cx="16002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2560" y="3576240"/>
            <a:ext cx="695160" cy="9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257800" y="3119040"/>
            <a:ext cx="685800" cy="138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9528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34960" y="4255920"/>
            <a:ext cx="1143000" cy="685800"/>
          </a:xfrm>
          <a:prstGeom prst="ellipse">
            <a:avLst/>
          </a:prstGeom>
          <a:solidFill>
            <a:srgbClr val="ff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1595160" y="1976040"/>
            <a:ext cx="237960" cy="229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86000" y="3576600"/>
            <a:ext cx="228600" cy="69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4724280"/>
            <a:ext cx="4343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14600" y="1519200"/>
            <a:ext cx="4114800" cy="298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5638680"/>
            <a:ext cx="2286000" cy="685800"/>
          </a:xfrm>
          <a:prstGeom prst="ellipse">
            <a:avLst/>
          </a:prstGeom>
          <a:solidFill>
            <a:srgbClr val="dc2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200400" y="3576600"/>
            <a:ext cx="1440" cy="206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58672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4952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2806560"/>
            <a:ext cx="1600200" cy="685800"/>
          </a:xfrm>
          <a:prstGeom prst="ellipse">
            <a:avLst/>
          </a:prstGeom>
          <a:solidFill>
            <a:srgbClr val="2300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86200" y="2805120"/>
            <a:ext cx="1828800" cy="231840"/>
          </a:xfrm>
          <a:prstGeom prst="line">
            <a:avLst/>
          </a:prstGeom>
          <a:ln w="9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1739880"/>
            <a:ext cx="434340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1968480"/>
            <a:ext cx="297180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00320" y="380880"/>
            <a:ext cx="65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hado Modules and Their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03:04:43Z</dcterms:created>
  <dc:creator>GMOD / NESCent</dc:creator>
  <dc:description/>
  <dc:language>en-US</dc:language>
  <cp:lastModifiedBy>GMOD / NESCent</cp:lastModifiedBy>
  <dcterms:modified xsi:type="dcterms:W3CDTF">2008-07-10T03:07:08Z</dcterms:modified>
  <cp:revision>1</cp:revision>
  <dc:subject/>
  <dc:title>PowerPoint Presentation</dc:title>
</cp:coreProperties>
</file>